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8A7-AA33-48DC-B026-5678737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EDE-9AD9-4313-A40F-CC25FD28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E1D-5596-452B-8B74-20C05B85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3DB-FCE8-4AE1-A6B1-6F958DC7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226-E8B8-4D5A-9A6E-A6CC45C1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046-A153-4729-9FB7-38D78C9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3AD-B892-44BA-8004-CB07F3D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BD8-028E-4C2A-8B84-C6B1F6BC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67C-7C9C-433A-9CF2-6145412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37C-DCA0-4902-8C58-04DE7FC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B68-2C1A-4DD7-A609-17D0BED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19F-F5E7-45CD-B717-AF0CC1B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80CC-A3B6-4259-B8CA-4BCE803A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630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84360" y="2008080"/>
            <a:ext cx="2623680" cy="2500560"/>
            <a:chOff x="684360" y="2008080"/>
            <a:chExt cx="2623680" cy="2500560"/>
          </a:xfrm>
        </p:grpSpPr>
        <p:sp>
          <p:nvSpPr>
            <p:cNvPr id="43" name=""/>
            <p:cNvSpPr txBox="1"/>
            <p:nvPr/>
          </p:nvSpPr>
          <p:spPr>
            <a:xfrm>
              <a:off x="957240" y="2185920"/>
              <a:ext cx="2350800" cy="232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ово небе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нова земя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84360" y="2008080"/>
              <a:ext cx="550440" cy="76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08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5360" y="2421000"/>
            <a:ext cx="35528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ново н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ова земя; 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рвото небе и първ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 бяха преминали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ре нямаше веч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9558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5360" y="2421000"/>
            <a:ext cx="36385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идях и светия град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вия Ерусалим,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иза от небето от Бо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вен като невес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красена за мъж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1928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5360" y="2421000"/>
            <a:ext cx="371484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силен гла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престола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ше: Ето, скиния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Бога е с човецит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й ще обитава с тях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ще бъдат Негов народ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сам Бог ще бъде с тях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хен Бог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4000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5360" y="2421000"/>
            <a:ext cx="404820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й ще обърше вся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лза от очите им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мърт няма да има веч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ито ще има вече жалеен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ито плач, нито болк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рвото премин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4316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2276640"/>
            <a:ext cx="38102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едящият на престол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а: Ето, подновява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о. Каза: Напиш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тези думи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рни и истин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4551480" y="2133720"/>
            <a:ext cx="4413240" cy="4476600"/>
            <a:chOff x="4551480" y="2133720"/>
            <a:chExt cx="4413240" cy="4476600"/>
          </a:xfrm>
        </p:grpSpPr>
        <p:sp>
          <p:nvSpPr>
            <p:cNvPr id="82" name=""/>
            <p:cNvSpPr txBox="1"/>
            <p:nvPr/>
          </p:nvSpPr>
          <p:spPr>
            <a:xfrm>
              <a:off x="4716360" y="2133720"/>
              <a:ext cx="4248360" cy="2171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7 Къде да отида от твоя Дух?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ли от присъствието Ти къд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а побегна?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  </a:t>
              </a: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8 Ако възляза на небето, Т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и там; Ако си постеля в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реизподнята, и там си Ти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4551480" y="4438800"/>
              <a:ext cx="4371840" cy="2171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  </a:t>
              </a: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9 Ако взема крилата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ората и се заселя в най-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алечните краища на морето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  </a:t>
              </a: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10 И там ще ме води ръкат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и, И Твоята десница ще м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ържи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4067280" y="857160"/>
            <a:ext cx="24098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139:7-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4760" y="4900680"/>
            <a:ext cx="78580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както е писано: Каквото око не е видя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ухо не е чуло, с начовешко сърце не е идва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о това е приготвил Бог за тия, които Го обича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40560" y="6165720"/>
            <a:ext cx="2324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Коринтяни 2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4316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2276640"/>
            <a:ext cx="430524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ми каза: Сбъднаха се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з съм Алфа и Оме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то и Краят. На жадн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дам даром от извор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дата на живо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788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2276640"/>
            <a:ext cx="33433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Който побеждава,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следи тези нещ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з ще му бъда Бог,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й ще Ми бъде си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88360" cy="696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403280" y="836640"/>
            <a:ext cx="1409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5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2276640"/>
            <a:ext cx="3000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Блажени кроткит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те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следят земя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95320" y="0"/>
            <a:ext cx="7348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11320" y="68400"/>
            <a:ext cx="4494240" cy="2274840"/>
          </a:xfrm>
          <a:custGeom>
            <a:avLst/>
            <a:gdLst/>
            <a:ahLst/>
            <a:rect l="l" t="t" r="r" b="b"/>
            <a:pathLst>
              <a:path w="2831" h="1433">
                <a:moveTo>
                  <a:pt x="11" y="467"/>
                </a:moveTo>
                <a:cubicBezTo>
                  <a:pt x="27" y="580"/>
                  <a:pt x="76" y="629"/>
                  <a:pt x="113" y="737"/>
                </a:cubicBezTo>
                <a:cubicBezTo>
                  <a:pt x="131" y="789"/>
                  <a:pt x="177" y="876"/>
                  <a:pt x="209" y="923"/>
                </a:cubicBezTo>
                <a:cubicBezTo>
                  <a:pt x="235" y="1001"/>
                  <a:pt x="214" y="1012"/>
                  <a:pt x="275" y="1073"/>
                </a:cubicBezTo>
                <a:cubicBezTo>
                  <a:pt x="279" y="1090"/>
                  <a:pt x="302" y="1136"/>
                  <a:pt x="311" y="1151"/>
                </a:cubicBezTo>
                <a:cubicBezTo>
                  <a:pt x="336" y="1195"/>
                  <a:pt x="362" y="1349"/>
                  <a:pt x="400" y="1366"/>
                </a:cubicBezTo>
                <a:cubicBezTo>
                  <a:pt x="463" y="1394"/>
                  <a:pt x="467" y="1433"/>
                  <a:pt x="659" y="1367"/>
                </a:cubicBezTo>
                <a:cubicBezTo>
                  <a:pt x="817" y="1363"/>
                  <a:pt x="945" y="1273"/>
                  <a:pt x="1103" y="1265"/>
                </a:cubicBezTo>
                <a:cubicBezTo>
                  <a:pt x="1154" y="1263"/>
                  <a:pt x="1174" y="1238"/>
                  <a:pt x="1223" y="1223"/>
                </a:cubicBezTo>
                <a:cubicBezTo>
                  <a:pt x="1307" y="1196"/>
                  <a:pt x="1309" y="1201"/>
                  <a:pt x="1397" y="1193"/>
                </a:cubicBezTo>
                <a:cubicBezTo>
                  <a:pt x="1418" y="1189"/>
                  <a:pt x="1531" y="1184"/>
                  <a:pt x="1553" y="1181"/>
                </a:cubicBezTo>
                <a:cubicBezTo>
                  <a:pt x="1587" y="1176"/>
                  <a:pt x="1651" y="1199"/>
                  <a:pt x="1685" y="1193"/>
                </a:cubicBezTo>
                <a:cubicBezTo>
                  <a:pt x="1749" y="1182"/>
                  <a:pt x="1760" y="1130"/>
                  <a:pt x="1829" y="1121"/>
                </a:cubicBezTo>
                <a:cubicBezTo>
                  <a:pt x="1970" y="1085"/>
                  <a:pt x="2103" y="1013"/>
                  <a:pt x="2253" y="1007"/>
                </a:cubicBezTo>
                <a:cubicBezTo>
                  <a:pt x="2401" y="906"/>
                  <a:pt x="2188" y="1046"/>
                  <a:pt x="2330" y="968"/>
                </a:cubicBezTo>
                <a:cubicBezTo>
                  <a:pt x="2357" y="953"/>
                  <a:pt x="2451" y="995"/>
                  <a:pt x="2441" y="941"/>
                </a:cubicBezTo>
                <a:cubicBezTo>
                  <a:pt x="2613" y="989"/>
                  <a:pt x="2796" y="930"/>
                  <a:pt x="2819" y="863"/>
                </a:cubicBezTo>
                <a:cubicBezTo>
                  <a:pt x="2831" y="784"/>
                  <a:pt x="2691" y="687"/>
                  <a:pt x="2667" y="607"/>
                </a:cubicBezTo>
                <a:cubicBezTo>
                  <a:pt x="2659" y="580"/>
                  <a:pt x="2576" y="500"/>
                  <a:pt x="2567" y="473"/>
                </a:cubicBezTo>
                <a:cubicBezTo>
                  <a:pt x="2525" y="449"/>
                  <a:pt x="2494" y="390"/>
                  <a:pt x="2477" y="359"/>
                </a:cubicBezTo>
                <a:cubicBezTo>
                  <a:pt x="2462" y="332"/>
                  <a:pt x="2405" y="281"/>
                  <a:pt x="2405" y="281"/>
                </a:cubicBezTo>
                <a:cubicBezTo>
                  <a:pt x="2380" y="207"/>
                  <a:pt x="2356" y="163"/>
                  <a:pt x="2303" y="119"/>
                </a:cubicBezTo>
                <a:cubicBezTo>
                  <a:pt x="2267" y="89"/>
                  <a:pt x="2249" y="29"/>
                  <a:pt x="2207" y="11"/>
                </a:cubicBezTo>
                <a:cubicBezTo>
                  <a:pt x="2182" y="0"/>
                  <a:pt x="2143" y="50"/>
                  <a:pt x="2117" y="41"/>
                </a:cubicBezTo>
                <a:cubicBezTo>
                  <a:pt x="2104" y="37"/>
                  <a:pt x="2074" y="59"/>
                  <a:pt x="2074" y="59"/>
                </a:cubicBezTo>
                <a:cubicBezTo>
                  <a:pt x="1874" y="69"/>
                  <a:pt x="1684" y="21"/>
                  <a:pt x="1493" y="77"/>
                </a:cubicBezTo>
                <a:cubicBezTo>
                  <a:pt x="1463" y="86"/>
                  <a:pt x="1410" y="77"/>
                  <a:pt x="1379" y="83"/>
                </a:cubicBezTo>
                <a:cubicBezTo>
                  <a:pt x="1324" y="93"/>
                  <a:pt x="1091" y="215"/>
                  <a:pt x="1091" y="215"/>
                </a:cubicBezTo>
                <a:cubicBezTo>
                  <a:pt x="926" y="325"/>
                  <a:pt x="821" y="143"/>
                  <a:pt x="641" y="221"/>
                </a:cubicBezTo>
                <a:cubicBezTo>
                  <a:pt x="425" y="263"/>
                  <a:pt x="221" y="339"/>
                  <a:pt x="0" y="354"/>
                </a:cubicBezTo>
                <a:cubicBezTo>
                  <a:pt x="4" y="367"/>
                  <a:pt x="2" y="384"/>
                  <a:pt x="13" y="392"/>
                </a:cubicBezTo>
                <a:cubicBezTo>
                  <a:pt x="124" y="471"/>
                  <a:pt x="27" y="499"/>
                  <a:pt x="11" y="467"/>
                </a:cubicBezTo>
                <a:close/>
              </a:path>
            </a:pathLst>
          </a:custGeom>
          <a:solidFill>
            <a:srgbClr val="ffffb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20920200">
            <a:off x="2176560" y="476280"/>
            <a:ext cx="361944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колкото за страхливите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вярващите, мерзавците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бийците, блудницит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гъосницит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32000" y="6165720"/>
            <a:ext cx="2400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5320" y="0"/>
            <a:ext cx="7348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11320" y="68400"/>
            <a:ext cx="4494240" cy="2274840"/>
          </a:xfrm>
          <a:custGeom>
            <a:avLst/>
            <a:gdLst/>
            <a:ahLst/>
            <a:rect l="l" t="t" r="r" b="b"/>
            <a:pathLst>
              <a:path w="2831" h="1433">
                <a:moveTo>
                  <a:pt x="11" y="467"/>
                </a:moveTo>
                <a:cubicBezTo>
                  <a:pt x="27" y="580"/>
                  <a:pt x="76" y="629"/>
                  <a:pt x="113" y="737"/>
                </a:cubicBezTo>
                <a:cubicBezTo>
                  <a:pt x="131" y="789"/>
                  <a:pt x="177" y="876"/>
                  <a:pt x="209" y="923"/>
                </a:cubicBezTo>
                <a:cubicBezTo>
                  <a:pt x="235" y="1001"/>
                  <a:pt x="214" y="1012"/>
                  <a:pt x="275" y="1073"/>
                </a:cubicBezTo>
                <a:cubicBezTo>
                  <a:pt x="279" y="1090"/>
                  <a:pt x="302" y="1136"/>
                  <a:pt x="311" y="1151"/>
                </a:cubicBezTo>
                <a:cubicBezTo>
                  <a:pt x="336" y="1195"/>
                  <a:pt x="362" y="1349"/>
                  <a:pt x="400" y="1366"/>
                </a:cubicBezTo>
                <a:cubicBezTo>
                  <a:pt x="463" y="1394"/>
                  <a:pt x="467" y="1433"/>
                  <a:pt x="659" y="1367"/>
                </a:cubicBezTo>
                <a:cubicBezTo>
                  <a:pt x="817" y="1363"/>
                  <a:pt x="945" y="1273"/>
                  <a:pt x="1103" y="1265"/>
                </a:cubicBezTo>
                <a:cubicBezTo>
                  <a:pt x="1154" y="1263"/>
                  <a:pt x="1174" y="1238"/>
                  <a:pt x="1223" y="1223"/>
                </a:cubicBezTo>
                <a:cubicBezTo>
                  <a:pt x="1307" y="1196"/>
                  <a:pt x="1309" y="1201"/>
                  <a:pt x="1397" y="1193"/>
                </a:cubicBezTo>
                <a:cubicBezTo>
                  <a:pt x="1418" y="1189"/>
                  <a:pt x="1531" y="1184"/>
                  <a:pt x="1553" y="1181"/>
                </a:cubicBezTo>
                <a:cubicBezTo>
                  <a:pt x="1587" y="1176"/>
                  <a:pt x="1651" y="1199"/>
                  <a:pt x="1685" y="1193"/>
                </a:cubicBezTo>
                <a:cubicBezTo>
                  <a:pt x="1749" y="1182"/>
                  <a:pt x="1760" y="1130"/>
                  <a:pt x="1829" y="1121"/>
                </a:cubicBezTo>
                <a:cubicBezTo>
                  <a:pt x="1970" y="1085"/>
                  <a:pt x="2103" y="1013"/>
                  <a:pt x="2253" y="1007"/>
                </a:cubicBezTo>
                <a:cubicBezTo>
                  <a:pt x="2401" y="906"/>
                  <a:pt x="2188" y="1046"/>
                  <a:pt x="2330" y="968"/>
                </a:cubicBezTo>
                <a:cubicBezTo>
                  <a:pt x="2357" y="953"/>
                  <a:pt x="2451" y="995"/>
                  <a:pt x="2441" y="941"/>
                </a:cubicBezTo>
                <a:cubicBezTo>
                  <a:pt x="2613" y="989"/>
                  <a:pt x="2796" y="930"/>
                  <a:pt x="2819" y="863"/>
                </a:cubicBezTo>
                <a:cubicBezTo>
                  <a:pt x="2831" y="784"/>
                  <a:pt x="2691" y="687"/>
                  <a:pt x="2667" y="607"/>
                </a:cubicBezTo>
                <a:cubicBezTo>
                  <a:pt x="2659" y="580"/>
                  <a:pt x="2576" y="500"/>
                  <a:pt x="2567" y="473"/>
                </a:cubicBezTo>
                <a:cubicBezTo>
                  <a:pt x="2525" y="449"/>
                  <a:pt x="2494" y="390"/>
                  <a:pt x="2477" y="359"/>
                </a:cubicBezTo>
                <a:cubicBezTo>
                  <a:pt x="2462" y="332"/>
                  <a:pt x="2405" y="281"/>
                  <a:pt x="2405" y="281"/>
                </a:cubicBezTo>
                <a:cubicBezTo>
                  <a:pt x="2380" y="207"/>
                  <a:pt x="2356" y="163"/>
                  <a:pt x="2303" y="119"/>
                </a:cubicBezTo>
                <a:cubicBezTo>
                  <a:pt x="2267" y="89"/>
                  <a:pt x="2249" y="29"/>
                  <a:pt x="2207" y="11"/>
                </a:cubicBezTo>
                <a:cubicBezTo>
                  <a:pt x="2182" y="0"/>
                  <a:pt x="2143" y="50"/>
                  <a:pt x="2117" y="41"/>
                </a:cubicBezTo>
                <a:cubicBezTo>
                  <a:pt x="2104" y="37"/>
                  <a:pt x="2074" y="59"/>
                  <a:pt x="2074" y="59"/>
                </a:cubicBezTo>
                <a:cubicBezTo>
                  <a:pt x="1874" y="69"/>
                  <a:pt x="1684" y="21"/>
                  <a:pt x="1493" y="77"/>
                </a:cubicBezTo>
                <a:cubicBezTo>
                  <a:pt x="1463" y="86"/>
                  <a:pt x="1410" y="77"/>
                  <a:pt x="1379" y="83"/>
                </a:cubicBezTo>
                <a:cubicBezTo>
                  <a:pt x="1324" y="93"/>
                  <a:pt x="1091" y="215"/>
                  <a:pt x="1091" y="215"/>
                </a:cubicBezTo>
                <a:cubicBezTo>
                  <a:pt x="926" y="325"/>
                  <a:pt x="821" y="143"/>
                  <a:pt x="641" y="221"/>
                </a:cubicBezTo>
                <a:cubicBezTo>
                  <a:pt x="425" y="263"/>
                  <a:pt x="221" y="339"/>
                  <a:pt x="0" y="354"/>
                </a:cubicBezTo>
                <a:cubicBezTo>
                  <a:pt x="4" y="367"/>
                  <a:pt x="2" y="384"/>
                  <a:pt x="13" y="392"/>
                </a:cubicBezTo>
                <a:cubicBezTo>
                  <a:pt x="124" y="471"/>
                  <a:pt x="27" y="499"/>
                  <a:pt x="11" y="467"/>
                </a:cubicBezTo>
                <a:close/>
              </a:path>
            </a:pathLst>
          </a:custGeom>
          <a:solidFill>
            <a:srgbClr val="ffffb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0920200">
            <a:off x="2448000" y="614160"/>
            <a:ext cx="32763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долопоклонниците 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те лъжци, тяхна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аст ще бъде в езерот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32000" y="6165720"/>
            <a:ext cx="2400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95320" y="0"/>
            <a:ext cx="73486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11320" y="68400"/>
            <a:ext cx="4494240" cy="2274840"/>
          </a:xfrm>
          <a:custGeom>
            <a:avLst/>
            <a:gdLst/>
            <a:ahLst/>
            <a:rect l="l" t="t" r="r" b="b"/>
            <a:pathLst>
              <a:path w="2831" h="1433">
                <a:moveTo>
                  <a:pt x="11" y="467"/>
                </a:moveTo>
                <a:cubicBezTo>
                  <a:pt x="27" y="580"/>
                  <a:pt x="76" y="629"/>
                  <a:pt x="113" y="737"/>
                </a:cubicBezTo>
                <a:cubicBezTo>
                  <a:pt x="131" y="789"/>
                  <a:pt x="177" y="876"/>
                  <a:pt x="209" y="923"/>
                </a:cubicBezTo>
                <a:cubicBezTo>
                  <a:pt x="235" y="1001"/>
                  <a:pt x="214" y="1012"/>
                  <a:pt x="275" y="1073"/>
                </a:cubicBezTo>
                <a:cubicBezTo>
                  <a:pt x="279" y="1090"/>
                  <a:pt x="302" y="1136"/>
                  <a:pt x="311" y="1151"/>
                </a:cubicBezTo>
                <a:cubicBezTo>
                  <a:pt x="336" y="1195"/>
                  <a:pt x="362" y="1349"/>
                  <a:pt x="400" y="1366"/>
                </a:cubicBezTo>
                <a:cubicBezTo>
                  <a:pt x="463" y="1394"/>
                  <a:pt x="467" y="1433"/>
                  <a:pt x="659" y="1367"/>
                </a:cubicBezTo>
                <a:cubicBezTo>
                  <a:pt x="817" y="1363"/>
                  <a:pt x="945" y="1273"/>
                  <a:pt x="1103" y="1265"/>
                </a:cubicBezTo>
                <a:cubicBezTo>
                  <a:pt x="1154" y="1263"/>
                  <a:pt x="1174" y="1238"/>
                  <a:pt x="1223" y="1223"/>
                </a:cubicBezTo>
                <a:cubicBezTo>
                  <a:pt x="1307" y="1196"/>
                  <a:pt x="1309" y="1201"/>
                  <a:pt x="1397" y="1193"/>
                </a:cubicBezTo>
                <a:cubicBezTo>
                  <a:pt x="1418" y="1189"/>
                  <a:pt x="1531" y="1184"/>
                  <a:pt x="1553" y="1181"/>
                </a:cubicBezTo>
                <a:cubicBezTo>
                  <a:pt x="1587" y="1176"/>
                  <a:pt x="1651" y="1199"/>
                  <a:pt x="1685" y="1193"/>
                </a:cubicBezTo>
                <a:cubicBezTo>
                  <a:pt x="1749" y="1182"/>
                  <a:pt x="1760" y="1130"/>
                  <a:pt x="1829" y="1121"/>
                </a:cubicBezTo>
                <a:cubicBezTo>
                  <a:pt x="1970" y="1085"/>
                  <a:pt x="2103" y="1013"/>
                  <a:pt x="2253" y="1007"/>
                </a:cubicBezTo>
                <a:cubicBezTo>
                  <a:pt x="2401" y="906"/>
                  <a:pt x="2188" y="1046"/>
                  <a:pt x="2330" y="968"/>
                </a:cubicBezTo>
                <a:cubicBezTo>
                  <a:pt x="2357" y="953"/>
                  <a:pt x="2451" y="995"/>
                  <a:pt x="2441" y="941"/>
                </a:cubicBezTo>
                <a:cubicBezTo>
                  <a:pt x="2613" y="989"/>
                  <a:pt x="2796" y="930"/>
                  <a:pt x="2819" y="863"/>
                </a:cubicBezTo>
                <a:cubicBezTo>
                  <a:pt x="2831" y="784"/>
                  <a:pt x="2691" y="687"/>
                  <a:pt x="2667" y="607"/>
                </a:cubicBezTo>
                <a:cubicBezTo>
                  <a:pt x="2659" y="580"/>
                  <a:pt x="2576" y="500"/>
                  <a:pt x="2567" y="473"/>
                </a:cubicBezTo>
                <a:cubicBezTo>
                  <a:pt x="2525" y="449"/>
                  <a:pt x="2494" y="390"/>
                  <a:pt x="2477" y="359"/>
                </a:cubicBezTo>
                <a:cubicBezTo>
                  <a:pt x="2462" y="332"/>
                  <a:pt x="2405" y="281"/>
                  <a:pt x="2405" y="281"/>
                </a:cubicBezTo>
                <a:cubicBezTo>
                  <a:pt x="2380" y="207"/>
                  <a:pt x="2356" y="163"/>
                  <a:pt x="2303" y="119"/>
                </a:cubicBezTo>
                <a:cubicBezTo>
                  <a:pt x="2267" y="89"/>
                  <a:pt x="2249" y="29"/>
                  <a:pt x="2207" y="11"/>
                </a:cubicBezTo>
                <a:cubicBezTo>
                  <a:pt x="2182" y="0"/>
                  <a:pt x="2143" y="50"/>
                  <a:pt x="2117" y="41"/>
                </a:cubicBezTo>
                <a:cubicBezTo>
                  <a:pt x="2104" y="37"/>
                  <a:pt x="2074" y="59"/>
                  <a:pt x="2074" y="59"/>
                </a:cubicBezTo>
                <a:cubicBezTo>
                  <a:pt x="1874" y="69"/>
                  <a:pt x="1684" y="21"/>
                  <a:pt x="1493" y="77"/>
                </a:cubicBezTo>
                <a:cubicBezTo>
                  <a:pt x="1463" y="86"/>
                  <a:pt x="1410" y="77"/>
                  <a:pt x="1379" y="83"/>
                </a:cubicBezTo>
                <a:cubicBezTo>
                  <a:pt x="1324" y="93"/>
                  <a:pt x="1091" y="215"/>
                  <a:pt x="1091" y="215"/>
                </a:cubicBezTo>
                <a:cubicBezTo>
                  <a:pt x="926" y="325"/>
                  <a:pt x="821" y="143"/>
                  <a:pt x="641" y="221"/>
                </a:cubicBezTo>
                <a:cubicBezTo>
                  <a:pt x="425" y="263"/>
                  <a:pt x="221" y="339"/>
                  <a:pt x="0" y="354"/>
                </a:cubicBezTo>
                <a:cubicBezTo>
                  <a:pt x="4" y="367"/>
                  <a:pt x="2" y="384"/>
                  <a:pt x="13" y="392"/>
                </a:cubicBezTo>
                <a:cubicBezTo>
                  <a:pt x="124" y="471"/>
                  <a:pt x="27" y="499"/>
                  <a:pt x="11" y="467"/>
                </a:cubicBezTo>
                <a:close/>
              </a:path>
            </a:pathLst>
          </a:custGeom>
          <a:solidFill>
            <a:srgbClr val="ffffb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920200">
            <a:off x="3078000" y="707760"/>
            <a:ext cx="2286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ето гори с огъ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жупел. Това 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тората смърт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2000" y="6165720"/>
            <a:ext cx="2400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192560" y="855720"/>
            <a:ext cx="2171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94320" y="2205000"/>
            <a:ext cx="404820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ака, понеже всичк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ва ще се разпадне, как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ябва да сте вие в св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от и благочести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192560" y="855720"/>
            <a:ext cx="2171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00720" y="2205000"/>
            <a:ext cx="397188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Като очаквате и копнее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идването на Божия де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ради който неб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пламенено ще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падн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стихиите нажежен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стопят!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92560" y="855720"/>
            <a:ext cx="2171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48360" y="2205000"/>
            <a:ext cx="343836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обещани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очакваме ново н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ова земя, в която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ее правд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4000" y="6165720"/>
            <a:ext cx="1800000" cy="5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8985b"/>
                  </a:outerShdw>
                </a:effectLst>
                <a:latin typeface="Monotype Corsiva"/>
              </a:rPr>
              <a:t>20 март</a:t>
            </a:r>
            <a:endParaRPr b="0" i="1" lang="en-US" sz="20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8985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71640" y="1989000"/>
            <a:ext cx="3532320" cy="27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олицата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а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овия свят</a:t>
            </a:r>
            <a:endParaRPr b="1" i="1" lang="en-US" sz="4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92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192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192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192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192560" y="85572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32360" y="2205000"/>
            <a:ext cx="375300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те своеволно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знават това, че чрез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ето слово от начал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 имало небе и зем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лотена от водат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ред вода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192560" y="85572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32360" y="2276640"/>
            <a:ext cx="3905280" cy="1014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о пак посредством тях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гавашният свят, потоп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водата, загин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192560" y="85572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2205000"/>
            <a:ext cx="419112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ака със същото слов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днешните небе и зем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натрупани за огъ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зени до деня на страшн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д и погибел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честивите човец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192560" y="855720"/>
            <a:ext cx="2171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I Петрово 3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8360" y="2205000"/>
            <a:ext cx="343836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обещани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 очакваме ново н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ова земя, в която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ее правд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88360" cy="696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340000" y="836640"/>
            <a:ext cx="17524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3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5360" y="2421000"/>
            <a:ext cx="357192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, както и в онез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ни преди потопа, ядя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иеха, женеха се и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мъжваха, до деня д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Ной влезе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вчег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340000" y="836640"/>
            <a:ext cx="17524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3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5360" y="2421000"/>
            <a:ext cx="36576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не усетиха, до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йде потопът и завлеч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, така ще бъд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шестви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шкия Си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0:00:17Z</dcterms:created>
  <dc:creator>The Mind</dc:creator>
  <dc:description/>
  <dc:language>en-US</dc:language>
  <cp:lastModifiedBy>Vlady</cp:lastModifiedBy>
  <dcterms:modified xsi:type="dcterms:W3CDTF">2005-03-13T17:07:50Z</dcterms:modified>
  <cp:revision>15</cp:revision>
  <dc:subject/>
  <dc:title>Slide 1</dc:title>
</cp:coreProperties>
</file>